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DCE-A729-4FDD-B8C9-06BB3A72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7E9-A39E-4015-855C-12BF8DA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35D-FB69-4F3C-BF3E-5AC7549B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F33-8503-4B13-99E2-935553AB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383-A11F-4CF8-94F8-DCE925C4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1BA7-8F1E-492A-ACBA-7B4CB13D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A7D6-F8BA-41D2-B675-7D8B3FEF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55F8-3B13-4ABD-86B6-8F196EDF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1E0A-2FC1-437E-96AA-B86286BA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4C20-A068-429A-BFA2-EB1C94B8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96B2-5521-4776-B728-1DFBA52D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01A8-6D6D-41AB-84C6-CC513733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AB9-AB7A-4ED5-BF63-8AA60D2B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A315-32B3-402F-AA5B-87E0B7F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063D-315E-4EB0-B9C8-37E99DD6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09B6-BD48-476A-8942-847FDAF6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9F3E-8856-43C5-A2DB-B04B6726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5A474-0020-45AD-8918-C743912A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9C44-782B-472B-91D2-120413E7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C854-7B60-4394-B843-0B0D2AB9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215CD-6F06-440E-AC1C-3A80C666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400A4-D6E4-4FCA-AEB5-76BFE943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F38-9425-4C4A-BDF8-1CF5B90E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5428-619B-4FCB-8399-259EC7AB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6D707-DDE3-4AE7-8BBE-17A7882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66CA-D553-4EAE-817C-9B92749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A0F0-7A3F-4E7A-AC20-73109A8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808A-33A4-4F63-B60D-3A87C5F5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BE3A-2002-4573-8203-C7F8FF85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7BA5-581F-46AF-90A0-C39C6D352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9CA4-A4E8-4CE8-8E89-6189A7A0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C384-93D1-4BD9-891C-08FE7693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4440-EC2F-4360-A033-3FBCAD4C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96C-CAC2-4CBC-AC6A-58F07221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0467-440E-4CCA-AA6E-03E16F99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6F5A-AE89-4840-A682-A9576EA6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F299-C5C0-4A12-A055-A552E87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15DC9-2B19-4EFC-9017-0C4EA87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B904-A031-4FBD-BB2C-8FF549A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ACFE-4290-42B7-97EF-F869E21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F8825-5846-4377-B4D3-58254758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F884-BC68-4F5D-89F7-B817046A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6FB5-4A0E-4779-9878-213AC02A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0DC28-60D7-4DC0-9AF0-4972D7D8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4D8-B254-4927-8692-CBDEE915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B3BC-C920-400C-A06E-9FBB5D22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A2B0-74F0-41BA-B6C7-0CDFC0D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795F1-FD7D-4070-9094-2CA53314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9CAD8-7712-45AA-B95C-5971EB21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2700A-9AB6-4F4E-83A4-0550D3AC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D934E-ED67-458A-AA71-FC35400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3841-8141-449A-AAC7-49557D6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70FFC-5FEB-41FD-95FC-00D1579A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95AC4-7000-4E67-A1F5-C8B98CFC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345AA-89E8-4847-B661-21224DB2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388B-2418-4587-873F-3336A5A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D4B8D-145C-466E-814F-086726F7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0075F-B400-4C41-8114-6FB0E41B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149B2-A683-402E-847D-FD9E1D1B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202D2-9B0E-4DE9-A3C6-443FE1B0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BEF5C-6C90-4B60-A45B-EF35D006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57A63-B0CF-44D3-9E66-7B536365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EBDA3-5179-4F22-BB1E-6BB648DB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5909F-6768-4F39-8441-69AA795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3125-7E1D-420A-8621-8B12A1F7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615C5-FE84-463F-817E-6AC0A81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B6F4-E707-4F5F-BD17-E7419F4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1B939-1F57-4193-91E1-AA261260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6EF44-320C-4B3D-B0F7-2E242EEC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6193-8973-4BE7-BCA4-EB9123CD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DE6E-F75A-419D-A461-C0C8AF0A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D830C-9942-4198-AE88-25C9C645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CF36-3915-488A-BB40-F0790F13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EAF7-6878-49A0-9D81-6B57E67F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1A706-143A-48A4-B6E8-6680D469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A2655-5AD2-4A07-A62C-6F6BACE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7AB15-3B6C-44A9-945C-F5A3EEF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248-FB8C-4969-94E0-2A4433AA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5A8B5-5F43-43E0-8913-6B0CA29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F007D-CB42-470D-B5CF-38D4E4F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48E4D-6D50-46C1-A90B-8D8569CD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5A769-F178-4CCC-A7F1-C0CA9967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42205-FBC8-4146-9D74-536D910A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E8F68-9F8B-491D-B1F0-D8033680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EB97D-981D-42B4-81B6-EA9069BC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7AAB-18EC-4558-AE79-FC0BF22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AA37A-9A42-455C-85EF-5E3106BD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ACEDA-D6D0-42D4-AEAD-BCBBE6B5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7E9-820C-49E3-A2BA-0FF04C4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C9F13-834F-4AD7-BE81-A3902458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A98FB-D896-4F3C-A237-9FFB4DD3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43F8-E43B-4D7C-98C0-E3EE0F5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83902-5351-4755-A453-589013B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3E72-7AB6-4D55-B97B-54E9CB7D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01088-6B32-4A0C-8661-593EB798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CA453-3D10-415F-80F0-CA1DF583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28C6-ED54-4DCE-83A2-F65B2F577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D374-B171-4431-9C28-ED3DB14048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DC4-0A54-4453-89E6-CBEFCB027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ED0D-C01E-40D0-9FCE-0198516418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0104-952F-4738-8A9F-A34BF559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D387-AEF1-4103-A2C0-0AE23EC4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1C8C-7A3E-4A5D-B71E-A637581D6FB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69D5-788A-40F0-AFB9-E5AFDD449EF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3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72800" cy="1841400"/>
          </a:xfrm>
          <a:prstGeom prst="rect">
            <a:avLst/>
          </a:prstGeom>
          <a:ln w="0">
            <a:noFill/>
          </a:ln>
        </p:spPr>
      </p:pic>
      <p:sp>
        <p:nvSpPr>
          <p:cNvPr id="346" name="WordArt 4"/>
          <p:cNvSpPr txBox="1"/>
          <p:nvPr/>
        </p:nvSpPr>
        <p:spPr>
          <a:xfrm>
            <a:off x="1752480" y="1676520"/>
            <a:ext cx="5410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otDog"/>
              </a:rPr>
              <a:t>ApOsTrOpHeS pOwErPoInT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otDog"/>
              <a:ea typeface="HotDo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755640" y="225360"/>
            <a:ext cx="8064360" cy="2371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294920" y="2743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53352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09480" y="2286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2971800" y="2362320"/>
            <a:ext cx="1447920" cy="380880"/>
          </a:xfrm>
          <a:prstGeom prst="rightArrow">
            <a:avLst>
              <a:gd name="adj1" fmla="val 50000"/>
              <a:gd name="adj2" fmla="val 95038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ヒラギノ角ゴ Pro W3"/>
              </a:rPr>
              <a:t>_x001a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48769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t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609480" y="2895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9"/>
          <p:cNvSpPr/>
          <p:nvPr/>
        </p:nvSpPr>
        <p:spPr>
          <a:xfrm>
            <a:off x="2743200" y="3276720"/>
            <a:ext cx="1219320" cy="380880"/>
          </a:xfrm>
          <a:prstGeom prst="rightArrow">
            <a:avLst>
              <a:gd name="adj1" fmla="val 50000"/>
              <a:gd name="adj2" fmla="val 80033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472428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tlin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685800" y="3809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s if there isn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2438280" y="4267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4572000" y="40384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tlin’s Miley Cyrus C.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owner                        Jes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apostrophes                    Jess’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the s if there is one         Jesse’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962520" y="2057400"/>
            <a:ext cx="2133360" cy="4572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267080" y="3200400"/>
            <a:ext cx="2057400" cy="533520"/>
          </a:xfrm>
          <a:prstGeom prst="rightArrow">
            <a:avLst>
              <a:gd name="adj1" fmla="val 50000"/>
              <a:gd name="adj2" fmla="val 96407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5486400" y="426708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d the owner                     Anna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apostrophes                 Anna’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 the s if there is one        Anna’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Right Arrow 5"/>
          <p:cNvSpPr/>
          <p:nvPr/>
        </p:nvSpPr>
        <p:spPr>
          <a:xfrm>
            <a:off x="4143240" y="2071800"/>
            <a:ext cx="1571760" cy="5000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388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ight Arrow 6"/>
          <p:cNvSpPr/>
          <p:nvPr/>
        </p:nvSpPr>
        <p:spPr>
          <a:xfrm>
            <a:off x="4286160" y="3286080"/>
            <a:ext cx="1571760" cy="5000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388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ight Arrow 7"/>
          <p:cNvSpPr/>
          <p:nvPr/>
        </p:nvSpPr>
        <p:spPr>
          <a:xfrm>
            <a:off x="5357880" y="4357800"/>
            <a:ext cx="857160" cy="500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388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00:52Z</dcterms:created>
  <dc:creator>502</dc:creator>
  <dc:description/>
  <dc:language>en-US</dc:language>
  <cp:lastModifiedBy>gr56</cp:lastModifiedBy>
  <dcterms:modified xsi:type="dcterms:W3CDTF">2009-09-04T00:33:59Z</dcterms:modified>
  <cp:revision>5</cp:revision>
  <dc:subject/>
  <dc:title>PowerPoint Presentation</dc:title>
</cp:coreProperties>
</file>